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626-9406-4B9A-ADB6-4C22F7E2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DEB-1648-405D-BC7F-155477E4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69C-9CF3-41C0-A372-FE83088F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FEF-6E3A-4687-9BA5-870E667A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A70-8AB1-41B4-AB6A-411B9846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DB7-0E5B-4329-940A-096228A6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CDE-AE76-4C33-8C0E-C2108633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ED7-3652-4CBA-B47D-31580ECA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85E-46E4-4FBA-A98A-BFFC8F43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D9F-EE49-40E8-B805-12809ADF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FBF-8984-4251-844C-C9D41B0E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DCA-B9AB-4439-A9BD-0D3E8D4C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CF1B-E677-445D-9652-31CE2742F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Baptism: question to con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riends in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ll you promise to maintain a lif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f worship and teach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ness and serv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 that N</a:t>
            </a: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gr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maturity in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God’s help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ill live out our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a loving community in Chr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urturing one another in fai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pholding one another in pray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encouraging one an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servi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til Christ c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3:25:44Z</dcterms:created>
  <dc:creator>Anon Anon</dc:creator>
  <dc:description/>
  <dc:language>en-US</dc:language>
  <cp:lastModifiedBy>Anon Anon</cp:lastModifiedBy>
  <dcterms:modified xsi:type="dcterms:W3CDTF">2005-08-09T05:36:22Z</dcterms:modified>
  <cp:revision>10</cp:revision>
  <dc:subject/>
  <dc:title>PowerPoint Presentation</dc:title>
</cp:coreProperties>
</file>